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39C6-9B0A-4917-8B9C-B4D56496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347-63F1-4D39-9FB2-086E797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01E8-854D-48E7-A24B-CCEBFFFB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4E0-C5ED-4A7E-AF11-0638B3AE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5ED-4176-4CC2-9156-8D174ADE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288-9B6C-47A4-9521-D460953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096A-C38B-49E7-893B-DA1D4A2E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E01-F323-4BE8-AE30-704D3E7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42F-D185-420D-8CC8-2E261E9B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75A-0C58-43B5-BE13-31BA9F19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77E-77E6-4781-AC23-D24B7112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78C-7149-45A4-B36B-0303BCD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0963-593E-446B-B7BF-F563BB44E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Kyr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Kyrie elei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11Z</dcterms:modified>
  <cp:revision>10</cp:revision>
  <dc:subject/>
  <dc:title>Confession (threefold form)</dc:title>
</cp:coreProperties>
</file>